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6B4-A016-40E3-BBBA-CDB0C727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7E8-944E-49F3-91A3-E7FFA572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89F-049A-443E-84E0-4D31FABB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133-088E-4BFC-891E-9E9FD2F1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361-6FF4-4B8A-B0FE-9FFB6DEB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6B4-7314-4402-9EF5-14F98C7A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6DC-C594-4088-8AF7-2C8277DB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C4E-11E1-43A7-95E6-F5D5C176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EB4-A2A2-4C6D-AEFA-E4F8FC97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23A-91B0-4F59-BC82-71150D3E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CD5-D461-4793-B835-B00BA991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B49-B781-4674-83A9-F20F0237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1461-94E4-49A5-B065-EC085F7DD659}" type="slidenum"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rder_asp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2600280" cy="2962080"/>
          </a:xfrm>
          <a:prstGeom prst="rect">
            <a:avLst/>
          </a:prstGeom>
          <a:ln w="0">
            <a:noFill/>
          </a:ln>
        </p:spPr>
      </p:pic>
      <p:pic>
        <p:nvPicPr>
          <p:cNvPr id="42" name="html_from1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3391200" cy="290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14800" y="2743200"/>
            <a:ext cx="91440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3048120"/>
            <a:ext cx="129564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3276720"/>
            <a:ext cx="53352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581280"/>
            <a:ext cx="53352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191120"/>
            <a:ext cx="53352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4495680"/>
            <a:ext cx="53352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3733920"/>
            <a:ext cx="228600" cy="228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51" name=""/>
          <p:cNvCxnSpPr>
            <a:stCxn id="43" idx="2"/>
            <a:endCxn id="45" idx="0"/>
          </p:cNvCxnSpPr>
          <p:nvPr/>
        </p:nvCxnSpPr>
        <p:spPr>
          <a:xfrm flipV="1" rot="10800000">
            <a:off x="2705040" y="2857680"/>
            <a:ext cx="1410120" cy="419400"/>
          </a:xfrm>
          <a:prstGeom prst="curvedConnector2">
            <a:avLst/>
          </a:prstGeom>
          <a:ln w="936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52" name=""/>
          <p:cNvCxnSpPr>
            <a:stCxn id="44" idx="2"/>
            <a:endCxn id="46" idx="7"/>
          </p:cNvCxnSpPr>
          <p:nvPr/>
        </p:nvCxnSpPr>
        <p:spPr>
          <a:xfrm flipV="1" rot="10800000">
            <a:off x="2970000" y="3162600"/>
            <a:ext cx="1068840" cy="452520"/>
          </a:xfrm>
          <a:prstGeom prst="curvedConnector2">
            <a:avLst/>
          </a:prstGeom>
          <a:ln w="936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53" name=""/>
          <p:cNvCxnSpPr>
            <a:stCxn id="49" idx="2"/>
            <a:endCxn id="47" idx="7"/>
          </p:cNvCxnSpPr>
          <p:nvPr/>
        </p:nvCxnSpPr>
        <p:spPr>
          <a:xfrm flipV="1" rot="10800000">
            <a:off x="2741040" y="3619800"/>
            <a:ext cx="992880" cy="605160"/>
          </a:xfrm>
          <a:prstGeom prst="curvedConnector2">
            <a:avLst/>
          </a:prstGeom>
          <a:ln w="936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54" name=""/>
          <p:cNvCxnSpPr>
            <a:stCxn id="50" idx="2"/>
            <a:endCxn id="48" idx="7"/>
          </p:cNvCxnSpPr>
          <p:nvPr/>
        </p:nvCxnSpPr>
        <p:spPr>
          <a:xfrm flipV="1" rot="10800000">
            <a:off x="2741040" y="3848040"/>
            <a:ext cx="992880" cy="681120"/>
          </a:xfrm>
          <a:prstGeom prst="curvedConnector2">
            <a:avLst/>
          </a:prstGeom>
          <a:ln w="9360">
            <a:solidFill>
              <a:srgbClr val="808080"/>
            </a:solidFill>
            <a:miter/>
            <a:tailEnd len="med" type="stealth" w="med"/>
          </a:ln>
        </p:spPr>
      </p:cxnSp>
      <p:sp>
        <p:nvSpPr>
          <p:cNvPr id="55" name=""/>
          <p:cNvSpPr/>
          <p:nvPr/>
        </p:nvSpPr>
        <p:spPr>
          <a:xfrm>
            <a:off x="1882800" y="22096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c0000"/>
                </a:solidFill>
                <a:latin typeface="Angsana New"/>
              </a:rPr>
              <a:t>Order.asp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4152960" y="16146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cc0000"/>
                </a:solidFill>
                <a:latin typeface="Angsana New"/>
              </a:rPr>
              <a:t>Order.htm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53:32Z</dcterms:created>
  <dc:creator>passkn</dc:creator>
  <dc:description/>
  <dc:language>en-US</dc:language>
  <cp:lastModifiedBy>passkn</cp:lastModifiedBy>
  <dcterms:modified xsi:type="dcterms:W3CDTF">2000-05-04T06:03:14Z</dcterms:modified>
  <cp:revision>1</cp:revision>
  <dc:subject/>
  <dc:title>No Slide Title</dc:title>
</cp:coreProperties>
</file>